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33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1EB54E-8102-4162-9754-5E192561C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573142-3855-425F-BA73-51AA0A939BD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DA356C-B433-4744-83D9-C90BFB17D58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62C46A-01D4-4F3D-B447-F756B03B79C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DD3BD7-F4B3-4FD5-AB9A-7712305E9D3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4C708E-2363-429E-8592-5EE28865210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B8A650-01DE-4750-B476-140C52266A0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77F501-7AE4-4AFE-AA60-F12728836C5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F4753F-EDD9-4C7D-9E9B-1DF2838AE1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99E88B-65D7-4138-9F12-A3EE2C26B0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6BC2B0-AC44-4C91-9BBC-623BA82188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0FF7B2-3236-42C2-94EF-E0803A96AC7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D3A880-D51A-4C0D-BCDF-C937610582E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A064B8-F964-466A-9568-7B2CCD33CA5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1C6CF3-7352-4107-B2B7-597999C3D0B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277099-B6C0-4784-881B-3EEEF2455AB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0D32BC-B5C3-44A1-8668-6190E571D7A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FE9AC3-8AEE-4B9E-BC79-9B9440A6AF8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27739A-5E9D-429F-AE30-A8D2EF77FC8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A76974-8A23-4B6D-9E71-F6E33C173CA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9EB9F8-4F21-4773-BED2-BBDB5B6810E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A847C7-9035-4454-9CE6-1EF917FD262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661D6A-E3FD-48F1-8EB5-E5F86C0119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608351-3686-4E7C-B554-4832D066478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4D1DDF-3BA7-4D1B-9E43-CF906AB716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296B01-659D-4A1D-B7CD-44199B79A77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91F6EE-B662-4869-8489-E2843C1F3F1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EB86A9-462B-4777-B644-1846EC0826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FF7125-D596-48CF-A8DD-14B70148FED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486059-0FE5-4B43-87E7-A29528BB73B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A112EE-A01B-4741-A9DC-35547EEBB08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3CD9AE-A5E9-4CD8-B74D-B487852E66A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DC8560-21DE-4727-8E7C-56E69293838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05DCA9-ECDC-42A3-BBBE-C02FECF29A5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DE1146-D3A8-4A0C-8FB4-68DDF5429CD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4D0D4A-A625-41EF-9DEC-196FDD8593C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4402DD-FAC9-47B9-B0B2-0DAC0B19B72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D081C9-B5F9-46DA-A3FC-5166311D6E8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76EA34-DF90-43BC-ABED-4A74E16B56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9026-6509-49CC-8D7B-954174EF1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7080-FC89-47B0-B449-79BBBC4F0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2F53-CB08-4429-BD5D-BCE620495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EA36-5B3F-42C9-A78D-B55B11626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62AAE-955B-4AC0-8A65-D00DE238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65F08-E7A2-40D8-8902-2F5CDF9D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4E84D-E5A4-4F1B-A3EC-B37D2997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9F1E3-DC83-4983-A97C-D46C26AF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0DD45-EFD3-4105-886B-87D1E12B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F985F-691B-426B-AFA7-8CF53761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4F051-D516-497A-8021-D12738A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CAE6-3DA6-4FA4-9DCE-5DEE55647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69C25-A475-4684-BC97-2930B3D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74F2D-519E-462B-BB4C-FDD2D7E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95038-B9AC-4298-BA83-726530B4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CC8F-CEBB-49A0-967F-25EF5B51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F05C6-D0EB-43E6-9104-2E9F26B3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3E50-3F0A-4EBE-A5AC-44C48442E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7F90-47A9-4ED2-9CFC-20E8E7884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AC66-8743-41B4-BCA2-714121E80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2671-9B0C-4440-B903-67D2D36E4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CC93-0917-4F76-A5E4-F39755157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0E42-9886-482A-A562-3165079E2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55BD-B41B-41E9-BDD6-133954B6A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F5AF-D5B9-4111-9EFC-CBDC9E8FFC2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768F-D3D0-4ABD-99DF-2A2B0EC829FA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600-A443-47F1-BFCB-F1AD9FD03D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00BA-BA8E-4E6E-8DB1-BC2D650392C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0920" y="549360"/>
            <a:ext cx="38894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Маларија/ Malаri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1" descr="eigencyclus"/>
          <p:cNvPicPr/>
          <p:nvPr/>
        </p:nvPicPr>
        <p:blipFill>
          <a:blip r:embed="rId1"/>
          <a:stretch/>
        </p:blipFill>
        <p:spPr>
          <a:xfrm>
            <a:off x="4211640" y="333360"/>
            <a:ext cx="46926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45B5-7405-4348-AD01-AF5AC19A37D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oocysts"/>
          <p:cNvPicPr/>
          <p:nvPr/>
        </p:nvPicPr>
        <p:blipFill>
          <a:blip r:embed="rId1"/>
          <a:srcRect l="0" t="6140" r="0" b="39916"/>
          <a:stretch/>
        </p:blipFill>
        <p:spPr>
          <a:xfrm>
            <a:off x="2627280" y="359100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oocysts2"/>
          <p:cNvPicPr/>
          <p:nvPr/>
        </p:nvPicPr>
        <p:blipFill>
          <a:blip r:embed="rId2"/>
          <a:srcRect l="0" t="0" r="0" b="36183"/>
          <a:stretch/>
        </p:blipFill>
        <p:spPr>
          <a:xfrm>
            <a:off x="3348000" y="1052640"/>
            <a:ext cx="5400720" cy="22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oocysts3"/>
          <p:cNvPicPr/>
          <p:nvPr/>
        </p:nvPicPr>
        <p:blipFill>
          <a:blip r:embed="rId3"/>
          <a:srcRect l="0" t="0" r="0" b="21856"/>
          <a:stretch/>
        </p:blipFill>
        <p:spPr>
          <a:xfrm>
            <a:off x="684360" y="1052640"/>
            <a:ext cx="2303280" cy="2220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000800" y="404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Ооцис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4048-09A1-474F-B59C-7D3FA2AF743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387440" y="764280"/>
            <a:ext cx="276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900000" y="1916280"/>
            <a:ext cx="81360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 је најважнија паразитоза људ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распрострањена у 103 земљ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од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је годишње оболева око милијарду људи, а умире више од 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илио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ившој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Југославији нема аутохтоних случајева маларије (последњи случај 1964. године), али се јављају импортовани случај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настанак и одржавање маларије неопходна су три фактора: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, преносилац и чов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ед тога, неопходни су и други фактори: атмосферски, климатски,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еренски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ја је најраспрострањенија у тропским и суптропским крајевима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где има ендемско-епидемијски каракте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14C4-1637-4C33-823C-DE813ED2FB9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6" descr="malaria_risk_2003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858240" y="404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Географска дистрибуциј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4863-3E72-497C-B064-6C30F75E5F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8" descr="picendem"/>
          <p:cNvPicPr/>
          <p:nvPr/>
        </p:nvPicPr>
        <p:blipFill>
          <a:blip r:embed="rId1"/>
          <a:stretch/>
        </p:blipFill>
        <p:spPr>
          <a:xfrm>
            <a:off x="2916360" y="907920"/>
            <a:ext cx="5209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13BA-04F9-44F4-B027-C33C69D9F8E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403280" y="764280"/>
            <a:ext cx="2228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042920" y="1916280"/>
            <a:ext cx="79930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тогенеза болести поклапа се са асексуалним циклусом развој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а у чове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патогенетски механиз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емолиза еритроци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сично оштећење различитих тки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лобађање цитокина (T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I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..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адхеренција и феноме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“розета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кроваскуларне (капиларне) оклузије у различитим орган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D2DD-0FC7-4C4C-A084-FB7F780DB15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332000" y="5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692360" y="2060640"/>
            <a:ext cx="6119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Инк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10-12 дана (8-23 да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 Стадијум примарних маларичних нап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I Стадијум лат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II Стадијум рецид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1BCB-A875-42FE-B0E2-C60874CFFF8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58920" y="476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 СТАДИЈУМ ПРИМАРНИХ МАЛАРИЧНИХ НАПА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900000" y="1341360"/>
            <a:ext cx="824400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нвазивни стадију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температура до 40ºC, главобоља, малаксалост, болови у мишићима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и напади пролазе кроз три стадијума: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дрхтавиц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хиперпирексиј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презнојавањ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ларичн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и трају 5-10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аларије терцијане и овале маларични напади се понављају сваких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48 часова, код маларије квартане на свака 7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код маларије тропике сваких 24-48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нелечене маларије терцијане и овале маларични напади се понављају током 2-4 недеље, код маларије квартане током 1-2 месеца, а затим спонтано прест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а сваким новим ма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ични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ом анемија прогредира, слезина с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е виш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већава, болесници се све више исцрпљу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59C6-4D4C-4678-81A8-A161F10F1C2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900000" y="620640"/>
            <a:ext cx="82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клиничко-лабораторијске знаке тешке маларије убрајају с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ока паразитемија (&gt;5% инфицираних еритроци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пирексија (телесна температура &gt; 40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наци афекције нервног система (“церебрална малариа”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немија (хематокрит &lt; 20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емећај гликорегулације (хипогликемија &lt; 2,2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понтана крваре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цидоз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&lt; 7,25; бикарбонати &lt; 15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убрежна инсуфицијенција (креатинин &gt; 265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; диуреза &lt; 400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билирубинемија (билирубин &gt; 50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рдиоваскуларни колап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е плућа и/или плућни ед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лив и/или повраћање (што отежава оралну примену леков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F602-5DC4-4D8A-A4C4-D8A374563F7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48360" y="83664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 ПЕРИОД ЛАТЕН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971640" y="2060640"/>
            <a:ext cx="817236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лечених болесника настаје услед уништења еритроцитне фазе 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воју паразита, а код нелечених због развоја делимичног имунит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овом периоду нема субјективних тегоба, у објективном налаз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оминира спленомега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 латенције код маларије тропике је кратак (1-6 недеља), док код м. терцијане и м. овале може да траје више недеља до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C4B6-9A84-46FF-8932-9FF19BF0CFA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51240" y="83664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I СТАДИЈУМ РЕЦИД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00000" y="2060640"/>
            <a:ext cx="80647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могу бити рани и кас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ни рецидиви могу да се јав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вих облика маларије; касни рецидиви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акође код свих осим м. троп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се клинички презентују типичним маларичним нападима, који се периодично понављају у одређеном временском интервалу; једина разлика је што временом маларични напади у рецидиву постају блажи, а период између појединих рецидива све већ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. терцијане, м. квартане и м. овале рецидиви настају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е фазе у развоју паразита, а код м. тропике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државања еритроцитне фаз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EBB-47DC-4561-B8A9-989FB482A5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042920" y="1989000"/>
            <a:ext cx="7632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Људски род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има три велика непријатеља: грозницу, глад и рат; убедљиво највећа, убедљиво најстрашнија од њих је грозница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William Os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E06F-C2B9-492F-AA0C-B1192EEED82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9960" y="76500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мпликације малар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403280" y="2133720"/>
            <a:ext cx="47530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уптура слезине или торз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бачај или превремени поро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ј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рномокраћна грозн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24B7-A577-45BE-B397-340C093FDCE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6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403280" y="2133720"/>
            <a:ext cx="6985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ичк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пидемиолошки подац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аборато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јск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анализ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брзана 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оцитна, нормохромна анем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алан број леукоцита (ретко леукоцитоз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ромбоцитопе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ко повишена активност трансамин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50EA-FBA4-4D3C-B738-A0AC813FDA7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87280" y="836640"/>
            <a:ext cx="7417080" cy="49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ентификациј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плазмодијума у крви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размаз или густа кап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етекција паразитног антигена (флуоресцентна микроскоп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анали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C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malaria82"/>
          <p:cNvPicPr/>
          <p:nvPr/>
        </p:nvPicPr>
        <p:blipFill>
          <a:blip r:embed="rId1"/>
          <a:stretch/>
        </p:blipFill>
        <p:spPr>
          <a:xfrm>
            <a:off x="6372360" y="1413000"/>
            <a:ext cx="2160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4121-DC79-4C11-8805-BF33A00A466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193400" y="333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826920" y="1484280"/>
            <a:ext cx="831708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циљ лечења је прекид акутног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ог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напада и превенција рецид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анас располажемо великим бројем антималаричних средстава која делују на различите развојне облике плазмодију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24000" y="3573360"/>
          <a:ext cx="8497800" cy="2721240"/>
        </p:xfrm>
        <a:graphic>
          <a:graphicData uri="http://schemas.openxmlformats.org/drawingml/2006/table">
            <a:tbl>
              <a:tblPr/>
              <a:tblGrid>
                <a:gridCol w="2931840"/>
                <a:gridCol w="5565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ноло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in, kinidin, hlorokin, meflokin, halofantrin, primak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емизи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zinin, artemetar, artesun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фол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rimetamin, proguanil, hlorproguanil, trimetop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бактериј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iklini, klindamicin, makrolidi, sulfonami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синтетисани нафтакинон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ovak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20" name="Picture 99" descr="vol5-38p1-303-00"/>
          <p:cNvPicPr/>
          <p:nvPr/>
        </p:nvPicPr>
        <p:blipFill>
          <a:blip r:embed="rId1"/>
          <a:stretch/>
        </p:blipFill>
        <p:spPr>
          <a:xfrm>
            <a:off x="6300720" y="333360"/>
            <a:ext cx="26431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F37-FBA7-47CC-98D4-C343F448301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116000" y="692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Хемо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042920" y="1989000"/>
            <a:ext cx="79218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емопрофилакса се спроводи 2 недеље пре одласка у ендемске крајеве, за време боравка у ендемским крајевима и најмање још 4 недељ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након повратка из маларичних краје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о хемопрофилактично средство је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hloroki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(2 табл. недељно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крајевима где је Pl. falciparum високо резистентан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орокин, мог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а се дају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ansida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(1 табл. недељно),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og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ni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(200 mg дневно) или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floki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(1 таб. недељн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C77B-9187-44B0-90B6-133073335A8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5" descr="MalariaMap"/>
          <p:cNvPicPr/>
          <p:nvPr/>
        </p:nvPicPr>
        <p:blipFill>
          <a:blip r:embed="rId1"/>
          <a:stretch/>
        </p:blipFill>
        <p:spPr>
          <a:xfrm>
            <a:off x="1187280" y="765000"/>
            <a:ext cx="7344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C186-6CE5-4F11-9A9A-54621557C83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476280"/>
            <a:ext cx="5616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Амебијаза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Amoeb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Mikroorganismen"/>
          <p:cNvPicPr/>
          <p:nvPr/>
        </p:nvPicPr>
        <p:blipFill>
          <a:blip r:embed="rId1"/>
          <a:stretch/>
        </p:blipFill>
        <p:spPr>
          <a:xfrm>
            <a:off x="5508720" y="1557360"/>
            <a:ext cx="34430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20B-179C-4984-9E99-9D9D895BBE8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438920" y="77796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332000" y="2565360"/>
            <a:ext cx="7200720" cy="2151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Амебијаза означава инфестацију организма протозоом Entam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bom histolyti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om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која се клинички испољав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широким спектром – од асимптоматске, преко амебног колитиса до инвазивних облика са стварањем апсцеса, пре свега у је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4A1F-BE1B-4891-82D1-9712B8734E9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403280" y="76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42920" y="1989000"/>
            <a:ext cx="79218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ta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ba histolyt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 је примарно паразит дебелог цре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јављује се у два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ични обл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истол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 облик (трофозоит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фозит је патогени облик паразита (продукује протеолитичке ензим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BAD-A752-4061-9FE8-7F17E8EAB48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ehistolytica2"/>
          <p:cNvPicPr/>
          <p:nvPr/>
        </p:nvPicPr>
        <p:blipFill>
          <a:blip r:embed="rId1"/>
          <a:stretch/>
        </p:blipFill>
        <p:spPr>
          <a:xfrm>
            <a:off x="1258920" y="1268280"/>
            <a:ext cx="2390760" cy="246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enta3"/>
          <p:cNvPicPr/>
          <p:nvPr/>
        </p:nvPicPr>
        <p:blipFill>
          <a:blip r:embed="rId2"/>
          <a:stretch/>
        </p:blipFill>
        <p:spPr>
          <a:xfrm>
            <a:off x="4572000" y="1268280"/>
            <a:ext cx="3170160" cy="2400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enta6"/>
          <p:cNvPicPr/>
          <p:nvPr/>
        </p:nvPicPr>
        <p:blipFill>
          <a:blip r:embed="rId3"/>
          <a:stretch/>
        </p:blipFill>
        <p:spPr>
          <a:xfrm>
            <a:off x="2843280" y="3933720"/>
            <a:ext cx="3527280" cy="2268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1102680" y="47628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Цистични облик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Entamoebe histolytic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B87-9AF4-4874-92A7-5A0657018A5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47640" y="62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87280" y="1989000"/>
            <a:ext cx="7129800" cy="14925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аларија је заразно обољење које изазивају четири врсте паразита из рода Plazmodijum, а преносе је убодом комарци из рода Anophe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258920" y="4221000"/>
            <a:ext cx="734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и се болест карактерише маларичним нападима (периодични напади грознице), анемијом и спленомегалијо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Recorded Sound" descr=""/>
          <p:cNvPicPr/>
          <p:nvPr/>
        </p:nvPicPr>
        <p:blipFill>
          <a:blip r:embed="rId1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BB27-0C9D-45C1-A460-14F8AF53548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E_histol_troph_drawA"/>
          <p:cNvPicPr/>
          <p:nvPr/>
        </p:nvPicPr>
        <p:blipFill>
          <a:blip r:embed="rId1"/>
          <a:srcRect l="8873" t="0" r="11118" b="0"/>
          <a:stretch/>
        </p:blipFill>
        <p:spPr>
          <a:xfrm>
            <a:off x="1042920" y="1700280"/>
            <a:ext cx="2708280" cy="33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E_histol_troph_C"/>
          <p:cNvPicPr/>
          <p:nvPr/>
        </p:nvPicPr>
        <p:blipFill>
          <a:blip r:embed="rId2"/>
          <a:stretch/>
        </p:blipFill>
        <p:spPr>
          <a:xfrm>
            <a:off x="6732720" y="1700280"/>
            <a:ext cx="2079360" cy="338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E_histol_troph_D"/>
          <p:cNvPicPr/>
          <p:nvPr/>
        </p:nvPicPr>
        <p:blipFill>
          <a:blip r:embed="rId3"/>
          <a:stretch/>
        </p:blipFill>
        <p:spPr>
          <a:xfrm>
            <a:off x="4067280" y="1700280"/>
            <a:ext cx="2376360" cy="3384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1378440" y="836640"/>
            <a:ext cx="38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Хистолитички облик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(трофозои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075C-7EFE-4463-8E40-766B58FA266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090800" y="189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971640" y="69228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вету има око 500 милиона особа инфестираних амеб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је космополитско обољење, али је најзаступљенија 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пским и суптропским крајев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6" descr="amoebiasis1"/>
          <p:cNvPicPr/>
          <p:nvPr/>
        </p:nvPicPr>
        <p:blipFill>
          <a:blip r:embed="rId1"/>
          <a:stretch/>
        </p:blipFill>
        <p:spPr>
          <a:xfrm>
            <a:off x="971640" y="1844640"/>
            <a:ext cx="6985080" cy="3516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"/>
          <p:cNvSpPr/>
          <p:nvPr/>
        </p:nvSpPr>
        <p:spPr>
          <a:xfrm>
            <a:off x="900000" y="53737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је типична фекално-орална инфекција; извор инфекције је болесник или амебоноша који столицом излучују цисте у спољну средину; човек се инфицира уношењем циста у организму (прљаве руке, вода, хр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F0CB-4D6E-4D29-A743-2D758CC3100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187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4967280" y="549360"/>
            <a:ext cx="4176720" cy="58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8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Цисте након ингестије, пролазе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желудац и танко црево, доспевају у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дебело црево где под повољним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условима прелазе у трофозоите</a:t>
            </a:r>
            <a:r>
              <a:rPr b="0" lang="sr-Latn-CS" sz="17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spcBef>
                <a:spcPts val="8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Захваљујући својим</a:t>
            </a:r>
            <a:r>
              <a:rPr b="0" lang="sr-C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протеолитичким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ферментима</a:t>
            </a:r>
            <a:r>
              <a:rPr b="0" lang="sr-Latn-CS" sz="1700" spc="-1" strike="noStrike">
                <a:solidFill>
                  <a:srgbClr val="ffffff"/>
                </a:solidFill>
                <a:latin typeface="Tahoma"/>
              </a:rPr>
              <a:t> (цистеин-протеазе)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 могу</a:t>
            </a:r>
            <a:r>
              <a:rPr b="0" lang="sr-C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да продру кроз цревну слуз</a:t>
            </a:r>
            <a:r>
              <a:rPr b="0" lang="sr-Latn-CS" sz="1700" spc="-1" strike="noStrike">
                <a:solidFill>
                  <a:srgbClr val="ffffff"/>
                </a:solidFill>
                <a:latin typeface="Tahoma"/>
              </a:rPr>
              <a:t>ницу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, у</a:t>
            </a:r>
            <a:r>
              <a:rPr b="0" lang="sr-C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субмукози изазивају некротично-инфламаторне промене, што у</a:t>
            </a:r>
            <a:r>
              <a:rPr b="0" lang="sr-C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крајњој инстанци резултира стварањем</a:t>
            </a:r>
            <a:r>
              <a:rPr b="0" lang="sr-C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улцерација</a:t>
            </a:r>
            <a:r>
              <a:rPr b="0" lang="sr-Latn-CS" sz="17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spcBef>
                <a:spcPts val="8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Лезије код амебијазе обично су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локализоване на цекуму и 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асцедентном колону, али су често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захваћени и ректум и сигма</a:t>
            </a:r>
            <a:r>
              <a:rPr b="0" lang="sr-Latn-CS" sz="17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spcBef>
                <a:spcPts val="8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Ређе, трофозоити могу да продру и у</a:t>
            </a:r>
            <a:r>
              <a:rPr b="0" lang="sr-C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крвне судове (цревног зида) и 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портним крвотоком у јетру, где</a:t>
            </a:r>
            <a:br>
              <a:rPr sz="1700"/>
            </a:b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формирају амебне а</a:t>
            </a:r>
            <a:r>
              <a:rPr b="0" lang="sr-Latn-CS" sz="17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GB" sz="1700" spc="-1" strike="noStrike">
                <a:solidFill>
                  <a:srgbClr val="ffffff"/>
                </a:solidFill>
                <a:latin typeface="Tahoma"/>
              </a:rPr>
              <a:t>сцесе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7" descr="image006"/>
          <p:cNvPicPr/>
          <p:nvPr/>
        </p:nvPicPr>
        <p:blipFill>
          <a:blip r:embed="rId1"/>
          <a:stretch/>
        </p:blipFill>
        <p:spPr>
          <a:xfrm>
            <a:off x="250920" y="765000"/>
            <a:ext cx="44672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BC26-A277-4CAB-BD8D-C880D099276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entah1"/>
          <p:cNvPicPr/>
          <p:nvPr/>
        </p:nvPicPr>
        <p:blipFill>
          <a:blip r:embed="rId1"/>
          <a:stretch/>
        </p:blipFill>
        <p:spPr>
          <a:xfrm>
            <a:off x="1692360" y="1413000"/>
            <a:ext cx="626436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040F-CFE1-43A8-B70D-4B1D73A959F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332000" y="549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линичка сл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258920" y="2060640"/>
            <a:ext cx="70563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нкубација код амебијазе је варијабилн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клинички може да се манифестује у више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имптоматск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ронична 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717E-2AA4-42D6-AED3-2E11EEE9B06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187280" y="620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042920" y="2060640"/>
            <a:ext cx="785016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тка у нашем поднебљ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Симптом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болови у трбуху, учестале слузаво-крваве столице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"ректални испљувак"), тенезни и лажни позиви на столиц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разлику од бациларне дизентерије, код амебне дизентерије нис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јаче испољени знаци фебрилности, дехридације и интоксикациј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30E5-DF2C-47B2-8633-34D2F4EAD25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332000" y="54936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м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п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ликац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042920" y="1989000"/>
            <a:ext cx="7993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форација са последичним перитонитис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тено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оми (хроничне грануломатозне пролиферације у цревном зиду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ње (најчешћ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но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 (хепатити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, церебрална, перитонеална, ...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365-3C03-4CCC-9FFB-CA3F874891C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18728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116000" y="2133720"/>
            <a:ext cx="7848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а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икробиолошка испитивањ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иректан микроскопски преглед препарата столиц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лтивисање столице на Лефлер-Симићевој подлоз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еролошке реакције (RVK, RIH, ELISA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лекуларна метода (PC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ктоскопски преглед са биопсијом слузнице (ради хистолошког прегледа слузнице на трофозоите!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A33-1EA2-4F40-B653-E06012DB3C0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16000" y="476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1094040" y="12675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Tahoma"/>
              </a:rPr>
              <a:t>Подела амебицида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16000" y="2205000"/>
          <a:ext cx="7632720" cy="3095640"/>
        </p:xfrm>
        <a:graphic>
          <a:graphicData uri="http://schemas.openxmlformats.org/drawingml/2006/table">
            <a:tbl>
              <a:tblPr/>
              <a:tblGrid>
                <a:gridCol w="3392640"/>
                <a:gridCol w="42400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уменал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oksanid furoat, klefamid, paromomicin, teklozan, etofamid, dijodohidroksikvinolin, nitazoksanid, 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kli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кивни или системск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tin, dihidroemetin, hlorokin, miltefosin, derivati arsena (karbazon i milib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ша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nitroimidazoli (metronidazol, ornidazol, tinidaz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2DDC-AC7A-4DEB-BA56-F7B2281EEDC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8064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симптоматски носиоци (луменални аген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Jodokino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650 mg таб.) – доза: 3×650 mg/дан, 2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Paromomicin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500 mg/дан, 1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кутни кол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Metronidazo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0 дан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мебни апсцес јет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дан о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Metronidazo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мг таб.) – доза: 3×750 мг/дан,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Tinidazo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гр/дан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Ornidazo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гр/дан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0" name="Picture 5" descr="images1"/>
          <p:cNvPicPr/>
          <p:nvPr/>
        </p:nvPicPr>
        <p:blipFill>
          <a:blip r:embed="rId1"/>
          <a:stretch/>
        </p:blipFill>
        <p:spPr>
          <a:xfrm>
            <a:off x="6588000" y="115920"/>
            <a:ext cx="2457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E5EB-FDBB-47C7-B9DE-E21CD8FDD26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58920" y="188280"/>
            <a:ext cx="216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P_malariae_schizont4"/>
          <p:cNvPicPr/>
          <p:nvPr/>
        </p:nvPicPr>
        <p:blipFill>
          <a:blip r:embed="rId1"/>
          <a:srcRect l="0" t="14399" r="0" b="0"/>
          <a:stretch/>
        </p:blipFill>
        <p:spPr>
          <a:xfrm>
            <a:off x="5940360" y="1052640"/>
            <a:ext cx="2160720" cy="1654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5747400" y="28526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malaria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kvart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0" descr="Plasmodium_vivax"/>
          <p:cNvPicPr/>
          <p:nvPr/>
        </p:nvPicPr>
        <p:blipFill>
          <a:blip r:embed="rId2"/>
          <a:stretch/>
        </p:blipFill>
        <p:spPr>
          <a:xfrm>
            <a:off x="1763640" y="1052640"/>
            <a:ext cx="2163960" cy="1697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1646640" y="2924280"/>
            <a:ext cx="25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vivax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erci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3" descr="ovale"/>
          <p:cNvPicPr/>
          <p:nvPr/>
        </p:nvPicPr>
        <p:blipFill>
          <a:blip r:embed="rId3"/>
          <a:srcRect l="0" t="3055" r="0" b="13823"/>
          <a:stretch/>
        </p:blipFill>
        <p:spPr>
          <a:xfrm>
            <a:off x="1835280" y="386064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4"/>
          <p:cNvSpPr/>
          <p:nvPr/>
        </p:nvSpPr>
        <p:spPr>
          <a:xfrm>
            <a:off x="1795320" y="566100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ov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ov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6" descr="winzeler02"/>
          <p:cNvPicPr/>
          <p:nvPr/>
        </p:nvPicPr>
        <p:blipFill>
          <a:blip r:embed="rId4"/>
          <a:srcRect l="18430" t="18250" r="7787" b="0"/>
          <a:stretch/>
        </p:blipFill>
        <p:spPr>
          <a:xfrm>
            <a:off x="5940360" y="3860640"/>
            <a:ext cx="2160720" cy="1729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5753160" y="566100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falciparu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rop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5982-B49B-49A8-B9B7-77E73693D79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132000" y="2781360"/>
            <a:ext cx="34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Хвала на па</a:t>
            </a:r>
            <a:r>
              <a:rPr b="0" i="1" lang="sr-Latn-CS" sz="3600" spc="-1" strike="noStrike">
                <a:solidFill>
                  <a:srgbClr val="ffff00"/>
                </a:solidFill>
                <a:latin typeface="Comic Sans MS"/>
              </a:rPr>
              <a:t>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CB2E-9305-4672-BD8F-99DE43D82F4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agambiae"/>
          <p:cNvPicPr/>
          <p:nvPr/>
        </p:nvPicPr>
        <p:blipFill>
          <a:blip r:embed="rId1"/>
          <a:stretch/>
        </p:blipFill>
        <p:spPr>
          <a:xfrm>
            <a:off x="1403280" y="1413000"/>
            <a:ext cx="3024360" cy="19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malaria3"/>
          <p:cNvPicPr/>
          <p:nvPr/>
        </p:nvPicPr>
        <p:blipFill>
          <a:blip r:embed="rId2"/>
          <a:stretch/>
        </p:blipFill>
        <p:spPr>
          <a:xfrm>
            <a:off x="5508720" y="393372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thumb-malaria_special"/>
          <p:cNvPicPr/>
          <p:nvPr/>
        </p:nvPicPr>
        <p:blipFill>
          <a:blip r:embed="rId3"/>
          <a:srcRect l="6557" t="0" r="9638" b="0"/>
          <a:stretch/>
        </p:blipFill>
        <p:spPr>
          <a:xfrm>
            <a:off x="1187280" y="3860640"/>
            <a:ext cx="36720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mosquito2"/>
          <p:cNvPicPr/>
          <p:nvPr/>
        </p:nvPicPr>
        <p:blipFill>
          <a:blip r:embed="rId4"/>
          <a:stretch/>
        </p:blipFill>
        <p:spPr>
          <a:xfrm>
            <a:off x="5651640" y="1341360"/>
            <a:ext cx="2736720" cy="2021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1638720" y="5493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noph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6157-CCCF-4B93-A4E2-DC9EA05328C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76360" y="98100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826920" y="206064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  Асексуални циклус ("шизогонија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I Сексуални циклус ("спорогонија"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cyclustext"/>
          <p:cNvPicPr/>
          <p:nvPr/>
        </p:nvPicPr>
        <p:blipFill>
          <a:blip r:embed="rId1"/>
          <a:stretch/>
        </p:blipFill>
        <p:spPr>
          <a:xfrm>
            <a:off x="5508720" y="1557360"/>
            <a:ext cx="3471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948F-598B-4089-BB72-26762739F3D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malariacycleBig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918360" y="26028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0D46-CB69-4154-9814-7C5BA35D872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Plasmodium"/>
          <p:cNvPicPr/>
          <p:nvPr/>
        </p:nvPicPr>
        <p:blipFill>
          <a:blip r:embed="rId1"/>
          <a:srcRect l="0" t="7458" r="0" b="0"/>
          <a:stretch/>
        </p:blipFill>
        <p:spPr>
          <a:xfrm>
            <a:off x="3348000" y="260280"/>
            <a:ext cx="4838760" cy="619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8" name="Rectangle 6"/>
          <p:cNvSpPr/>
          <p:nvPr/>
        </p:nvSpPr>
        <p:spPr>
          <a:xfrm>
            <a:off x="1156680" y="620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</a:t>
            </a:r>
            <a:br>
              <a:rPr sz="1800"/>
            </a:b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6DB-B7E5-46E7-BD78-253A0DD23A5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F0000-012-001"/>
          <p:cNvPicPr/>
          <p:nvPr/>
        </p:nvPicPr>
        <p:blipFill>
          <a:blip r:embed="rId1"/>
          <a:srcRect l="0" t="0" r="0" b="6943"/>
          <a:stretch/>
        </p:blipFill>
        <p:spPr>
          <a:xfrm>
            <a:off x="2700360" y="189000"/>
            <a:ext cx="6264360" cy="6154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725040" y="69228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</a:t>
            </a:r>
            <a:br>
              <a:rPr sz="1800"/>
            </a:b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3T01:35:10Z</dcterms:modified>
  <cp:revision>92</cp:revision>
  <dc:subject/>
  <dc:title>Slide 1</dc:title>
</cp:coreProperties>
</file>