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9.png" ContentType="image/png"/>
  <Override PartName="/ppt/media/image22.jpeg" ContentType="image/jpeg"/>
  <Override PartName="/ppt/media/image39.png" ContentType="image/pn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1553E5-A403-4C33-8F3E-638FC62D7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466F6D-2494-4D94-9246-74F2BE90D5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327BA-8726-4377-B548-C986BEC3653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82B0D3-A3CC-410E-9C6F-ACC073E7E3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C00574-0C81-4713-9534-5099CF9113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4BFD0E-9D85-41CE-BF6C-71C88D354E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84706D-27FA-4998-B3F6-EBDABF5B56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60AE0B-7FD2-4039-BE8B-FFAC4BDF23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BFFE8B-F348-48A0-B5D5-0E7C9CE51E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EB13A9-7545-4FCA-B95C-92D88CDA09A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999D6F-1292-42CD-B589-96335F84252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B9F67D-6B2A-40F2-A5D7-D9FAEA754E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A21B91-7F11-4507-9CC8-F98D82F9E4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3C1F36-D01C-4366-9B02-B92F009CE6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4CAC5B-2429-4980-BAD8-B19FD77F454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A12843-0CE2-40A5-A314-CFCE8CEC8EC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788F63-3889-4DEE-A703-BF77A69C242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974C7B-369E-4D0E-B791-E51FADAA08F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5F065F-7246-4B07-87E4-917397C5CE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70D51E-3C91-4EBB-AC45-51C7E84CB72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BFB2DC-CB50-46B4-96C8-A6D1761298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1E6E72-2045-4F9D-BBEC-A96755F8117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A76630-92E2-4A6F-966D-6A1865B437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6DB9F7-34B2-4A15-A6E3-20397CE693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E089B6-3562-4926-9A5A-E82CCB89976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922C53-F365-4D24-A79B-87F5FAC972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918497-77A5-4D1F-9B3E-EE116B4348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804CAC-9281-47BD-A2CB-2969D067EB0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8C94B6-BD81-4721-BB7F-AD9D5CAA54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246E08-C22C-4E61-B3A5-D58F813D8B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E87E6F-DD40-4347-9F0B-3055C08BA80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1DBD08-D101-4D0B-8835-3000CF0CAD0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A9EC37-9A55-470F-AF5F-D71CF83DDB4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902189-97BB-46A0-8FE1-30366F66D6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8C1EA3-C37E-434E-98DF-62CE361F361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EF72B4-FCEE-4DAF-A8A6-73A2F0F4CD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00C014-FCC7-4691-9481-63A5708C68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AB6FB6-47DC-4143-8447-BDF437E13D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0EAF1B-87EA-4044-8AA9-58064A9DB5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8540F4-6387-4D3E-94AD-18065AF8E3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8EF98F-1091-4F5F-AB60-E7F5C5F2ACE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F20FC2-786A-4D97-8662-509F119C1E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3615F-4ECA-432D-ABD3-2399885D46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FC1CDE-058D-4B6A-BD7E-F42BEF1520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96884A-F4E5-48AB-B7CA-4F6D646ED1F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B5A2-9E83-4128-8009-B5052BED3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1F41-B11F-495A-AAD3-0FC810E57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0747-A13D-4500-B925-CB65672EB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7DB9-E830-446E-990D-B7C416A20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8D949-60CD-4143-A92E-BB773FF3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B0B85-65B2-4E8A-A8AB-FD0D1C07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787A3-0699-4105-BFCF-B55E72C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EF83-38FE-4B36-AB1B-79A8EA8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607D-F127-4B75-AEC9-7CC53166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20D71-9A58-4132-904B-1568B25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AD6B6-A38E-4770-8B48-9707FBB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19F2-1178-4ABE-9E91-E09FBD4C0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27CD-66BC-4DB4-B039-DD2AC72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05708-3379-41FA-B028-740E834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21036-1791-4F4E-8C5F-D50E732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B8A72-F7BF-412E-ADF4-2244D74B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8CD1-B688-4086-ACFA-672DCC22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D0AD-00AF-4391-A471-EE8808493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D3A1-2BC1-4FDA-9D50-6BB474D0D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A3FB-94BE-429D-BC2D-502C81FA6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79A6-90EC-43BF-AA25-21C57551D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709B-7BB2-4A64-AC38-1F1DDC475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E34C-F2A6-4E08-A001-A71A6C346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8610-F9C2-486C-869C-3C105D46B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F3CC-3575-48AB-84D7-300D74F14E2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9E0A-75F1-4862-9281-962FF7193E45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8656-7A38-4FAB-AD1C-923E062678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8266-7825-48A6-A7D5-FAA48A7A76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00000" y="333360"/>
            <a:ext cx="69138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aзa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1701-73DD-43BC-8F83-AAE6CB9A099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92360" y="2205000"/>
            <a:ext cx="561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AD8A-670A-4B74-99DF-74430AAEC1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116000" y="981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</a:t>
            </a: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 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6D8-09AB-425A-A9A2-7C310BDA51E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B185-1AC7-428A-9988-1198B3E6AF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187280" y="90792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42920" y="1773360"/>
            <a:ext cx="78487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E0B2-223B-49F1-B32A-39A6C710A1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C652-9142-43DD-98BA-4F37E232A7F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CB8-45DB-43FD-9CBB-FBC03F44163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116000" y="90792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F21-0A1E-4EAB-B158-E6D1AC160C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759680" y="503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692360" y="2133720"/>
            <a:ext cx="4680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1B0-9F9B-457D-A6F8-F2174DF336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186560" y="3789720"/>
            <a:ext cx="45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200960" y="2059920"/>
            <a:ext cx="70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AC9-A803-47B7-8795-894352CAD01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33200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87E-555C-4373-97CC-EC85AC68100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403280" y="2349360"/>
            <a:ext cx="72723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373-2D31-4D8D-A619-A6F99CFCAF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E05A-2395-4BCE-A084-8EAA3DEF5D5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332000" y="1916280"/>
            <a:ext cx="3095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мфотерици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дје, витамин B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7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CCF-80D5-401F-8C1E-391449041EA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981000"/>
            <a:ext cx="4427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e9f913"/>
                </a:solidFill>
                <a:latin typeface="Comic Sans MS"/>
              </a:rPr>
              <a:t>Трипанозомијаза/</a:t>
            </a:r>
            <a:br>
              <a:rPr sz="3600"/>
            </a:br>
            <a:r>
              <a:rPr b="1" i="1" lang="sr-Latn-CS" sz="3600" spc="-1" strike="noStrike">
                <a:solidFill>
                  <a:srgbClr val="e9f913"/>
                </a:solidFill>
                <a:latin typeface="Comic Sans MS"/>
              </a:rPr>
              <a:t>Trypanosomiasis</a:t>
            </a:r>
            <a:r>
              <a:rPr b="0" lang="en-US" sz="3600" spc="-1" strike="noStrike">
                <a:solidFill>
                  <a:srgbClr val="e9f91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6" descr="01-0130ab-african-1"/>
          <p:cNvPicPr/>
          <p:nvPr/>
        </p:nvPicPr>
        <p:blipFill>
          <a:blip r:embed="rId1"/>
          <a:srcRect l="21283" t="0" r="0" b="0"/>
          <a:stretch/>
        </p:blipFill>
        <p:spPr>
          <a:xfrm>
            <a:off x="4572000" y="836640"/>
            <a:ext cx="4286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EA2-A7B9-4D5B-94E2-32E6599762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58920" y="549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АМЕРИЧКА ТРИПАНОЗОМИЈ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(Шагасова бол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602360" y="20595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187280" y="2708280"/>
            <a:ext cx="7704360" cy="3329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Америчка трипанозомијаза или Шагасова болест је зооноза коју узрокује </a:t>
            </a: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Trypanosoma cruzi, </a:t>
            </a: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а преносе је хематофагни инсекти </a:t>
            </a: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triatomi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Јавља се у акутном и хроничном облику, а клинички се најчешће испољава кардијалним и гастроинтестиналним манифестацијама.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02D7-E883-46F4-8255-60875959185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6000" y="1411200"/>
            <a:ext cx="29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Животни циклус </a:t>
            </a:r>
            <a:br>
              <a:rPr sz="2400"/>
            </a:b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паразита </a:t>
            </a:r>
            <a:br>
              <a:rPr sz="2400"/>
            </a:b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и трансмисија</a:t>
            </a:r>
            <a:r>
              <a:rPr b="0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50920" y="4051440"/>
            <a:ext cx="864216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. cruzi преносе хематофагни инсект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triatomini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reduviid бубе), које се инфицирају сишући крв животиња или људи који имају циркулишуће паразите (tripomastigote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овек се инфицира на следећи начин: када триатомини сушу крв неинфицираног човека, они фецесом излучују паразите (трипомастиготе), који продиру кроз оштећену кожу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лузнице или коњунктиве у организа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уласка у организам, паразити се крвотоком и лимфотоком дисеминују по организму, првенствено су захваћени мишићи (укључујући и миокард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7" descr="AmerTryp_LifeCycle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7C1-3B46-48F4-A7C4-B548B2B4EC5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Image155"/>
          <p:cNvPicPr/>
          <p:nvPr/>
        </p:nvPicPr>
        <p:blipFill>
          <a:blip r:embed="rId1"/>
          <a:stretch/>
        </p:blipFill>
        <p:spPr>
          <a:xfrm>
            <a:off x="539640" y="270000"/>
            <a:ext cx="4392720" cy="286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untitled"/>
          <p:cNvPicPr/>
          <p:nvPr/>
        </p:nvPicPr>
        <p:blipFill>
          <a:blip r:embed="rId2"/>
          <a:stretch/>
        </p:blipFill>
        <p:spPr>
          <a:xfrm>
            <a:off x="3564000" y="2492280"/>
            <a:ext cx="5580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EEA2-1D7D-42E5-8DBD-DE62941ABE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378080" y="7340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2276640"/>
            <a:ext cx="3960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Шагасова болест се јављ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искључиво у Америци (16-18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милиона људ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ј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хронично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инфицирано овим паразитом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дивље и домаће животи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971640" y="486900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овек се инфицира када дође у контакт са зараженим инсектима, обично у шумама, колибама и каменим кућама; ређе, инфекција се може пренети и трансфузијом заражене крви, са мајке на дете и у току лабораторијског акцидент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s-amer"/>
          <p:cNvPicPr/>
          <p:nvPr/>
        </p:nvPicPr>
        <p:blipFill>
          <a:blip r:embed="rId1"/>
          <a:stretch/>
        </p:blipFill>
        <p:spPr>
          <a:xfrm>
            <a:off x="4776840" y="333360"/>
            <a:ext cx="415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87D9-10BB-42E4-B2B1-D3B574C2E75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446840" y="548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386000" y="13406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e9f913"/>
                </a:solidFill>
                <a:latin typeface="Tahoma"/>
              </a:rPr>
              <a:t>И Акутни облик Шагасове 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280160" y="198828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износи око недељу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889920" y="292320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e9f913"/>
                </a:solidFill>
                <a:latin typeface="Tahoma"/>
              </a:rPr>
              <a:t>Локални симптоми и зна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971640" y="378936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 месту уласка паразита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авља се индурација са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ритемом и оток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(шагома), праћена регионални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аденитис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10" descr="01-0130ab-african"/>
          <p:cNvPicPr/>
          <p:nvPr/>
        </p:nvPicPr>
        <p:blipFill>
          <a:blip r:embed="rId1"/>
          <a:stretch/>
        </p:blipFill>
        <p:spPr>
          <a:xfrm>
            <a:off x="4643280" y="2779560"/>
            <a:ext cx="4286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DE2-C7BE-403B-9DA9-5A34EFE8F34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42920" y="260280"/>
            <a:ext cx="763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да је улазно место коњунктива, јавља се једнострани, безболни оток капка и периокуларног ткива (Ромања знак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987120" y="4723560"/>
            <a:ext cx="38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e9f913"/>
                </a:solidFill>
                <a:latin typeface="Tahoma"/>
              </a:rPr>
              <a:t>Системски симптоми и зна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971640" y="5229360"/>
            <a:ext cx="8172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температура, малаксалост, оток лица и потколеница, оспа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енерализована лимфаденопатија, хепатоспленомегалија, миокардитис (редак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9" descr="trypanosomiasis_r"/>
          <p:cNvPicPr/>
          <p:nvPr/>
        </p:nvPicPr>
        <p:blipFill>
          <a:blip r:embed="rId1"/>
          <a:stretch/>
        </p:blipFill>
        <p:spPr>
          <a:xfrm>
            <a:off x="5796000" y="1341360"/>
            <a:ext cx="3009960" cy="31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1T-Americka"/>
          <p:cNvPicPr/>
          <p:nvPr/>
        </p:nvPicPr>
        <p:blipFill>
          <a:blip r:embed="rId2"/>
          <a:stretch/>
        </p:blipFill>
        <p:spPr>
          <a:xfrm>
            <a:off x="684360" y="1341360"/>
            <a:ext cx="47145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51A-B4A8-40FD-8B67-47389B2623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548720" y="1124640"/>
            <a:ext cx="49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e9f913"/>
                </a:solidFill>
                <a:latin typeface="Tahoma"/>
              </a:rPr>
              <a:t>II Хронични облик Шагасове болести</a:t>
            </a:r>
            <a:r>
              <a:rPr b="1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258920" y="2133720"/>
            <a:ext cx="763416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хронична Шагасова болест јавља се годинама или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деценијама после иницијалне инфекц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јчешће захваћени органи су: срце и гастроинтестинални тракт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DE9F-6CDC-4AC2-B58E-FE16149760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42920" y="2276640"/>
            <a:ext cx="79930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iјa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a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o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aзу изазивa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u лајшмaнијaзу u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</a:t>
            </a:r>
            <a:br>
              <a:rPr sz="1800"/>
            </a:b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   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u лaјшмanијaзu u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BFC-0394-4063-8A66-89B6E8A6BB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050920" y="83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e9f913"/>
                </a:solidFill>
                <a:latin typeface="Tahoma"/>
              </a:rPr>
              <a:t>А. Ср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00000" y="1844640"/>
            <a:ext cx="496728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4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атоанатомске промене: увећан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море, стањен зид комора, анеуризм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пекса, мурални тромб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4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атохистолошке промене: лимфоцитна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илтрација, дифузна интерстицијска фиброза, атрофија миокардних ће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4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КГ промене: поремећаји срчаног ритма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(најчешћи блок десне гран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40000"/>
              </a:lnSpc>
              <a:spcBef>
                <a:spcPts val="1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мболизација мозга и других орг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8" descr="Image157-shagas-cor"/>
          <p:cNvPicPr/>
          <p:nvPr/>
        </p:nvPicPr>
        <p:blipFill>
          <a:blip r:embed="rId1"/>
          <a:stretch/>
        </p:blipFill>
        <p:spPr>
          <a:xfrm>
            <a:off x="5724360" y="4076640"/>
            <a:ext cx="3181680" cy="2038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Tcruz_Cardiomeg_Despo"/>
          <p:cNvPicPr/>
          <p:nvPr/>
        </p:nvPicPr>
        <p:blipFill>
          <a:blip r:embed="rId2"/>
          <a:stretch/>
        </p:blipFill>
        <p:spPr>
          <a:xfrm>
            <a:off x="5867280" y="549360"/>
            <a:ext cx="28148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D0BB-08BC-4C37-A31F-5AA1E9823EA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776520" y="98028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Б. Гастроинтестинални тракт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900000" y="2421000"/>
            <a:ext cx="39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егаезофагус (дисфагија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одонофагија, регургитација,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егаколон (абдоминални бол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хронична констипација,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волвулус,..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7" descr="mega1"/>
          <p:cNvPicPr/>
          <p:nvPr/>
        </p:nvPicPr>
        <p:blipFill>
          <a:blip r:embed="rId1"/>
          <a:stretch/>
        </p:blipFill>
        <p:spPr>
          <a:xfrm>
            <a:off x="4859280" y="333360"/>
            <a:ext cx="407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50E-2ED6-4668-A41F-EE9E9973EF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551600" y="69120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Дијагноза</a:t>
            </a:r>
            <a:r>
              <a:rPr b="0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042920" y="263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e9f913"/>
                </a:solidFill>
                <a:latin typeface="Tahoma"/>
              </a:rPr>
              <a:t>Дијагноза акутне </a:t>
            </a:r>
            <a:br>
              <a:rPr sz="2000"/>
            </a:br>
            <a:r>
              <a:rPr b="1" i="1" lang="sr-CS" sz="2000" spc="-1" strike="noStrike">
                <a:solidFill>
                  <a:srgbClr val="e9f913"/>
                </a:solidFill>
                <a:latin typeface="Tahoma"/>
              </a:rPr>
              <a:t>Шагасове 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971640" y="414972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етекција паразита у крв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(микроскопски преглед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900000" y="530064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паразита из крви (култивисање на специјалним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иолошки огл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10" descr="clip_image002_0000"/>
          <p:cNvPicPr/>
          <p:nvPr/>
        </p:nvPicPr>
        <p:blipFill>
          <a:blip r:embed="rId1"/>
          <a:stretch/>
        </p:blipFill>
        <p:spPr>
          <a:xfrm>
            <a:off x="4284720" y="1773360"/>
            <a:ext cx="4753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2B1-6FAD-4BB4-9A49-02E2C328EAE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619280" y="1268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e9f913"/>
                </a:solidFill>
                <a:latin typeface="Tahoma"/>
              </a:rPr>
              <a:t>Дијагноза хроничне Шагасове 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476360" y="2133720"/>
            <a:ext cx="56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етекција антитела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. cruzi (RVK, ELISA, IF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етекција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043-AD09-49BE-A99D-C287D73B1E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547640" y="1052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87280" y="2421000"/>
            <a:ext cx="35290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ifurtimoks (8-10mg/kg/24h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enzidazol (5 mg/kg/24h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7" descr="clip_image001-2"/>
          <p:cNvPicPr/>
          <p:nvPr/>
        </p:nvPicPr>
        <p:blipFill>
          <a:blip r:embed="rId1"/>
          <a:stretch/>
        </p:blipFill>
        <p:spPr>
          <a:xfrm>
            <a:off x="5148360" y="1700280"/>
            <a:ext cx="37098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08C-B287-4D56-B6E8-E091EDF99CF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332000" y="4762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АФРИЧКА ТРИПАНОЗОМИЈ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(Болест спавања)</a:t>
            </a:r>
            <a:r>
              <a:rPr b="1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539000" y="2014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Дефиниција</a:t>
            </a:r>
            <a:r>
              <a:rPr b="0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116000" y="2781360"/>
            <a:ext cx="7777080" cy="327492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Афричка трипанозомијаза или болест спавања узрокована је флагеларним протозоама које пр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падају комплексу </a:t>
            </a: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Trypanosoma brucei, </a:t>
            </a: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а преноси се на људе це-це мувама из рода </a:t>
            </a: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Glosina</a:t>
            </a: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9f913"/>
                </a:solidFill>
                <a:latin typeface="Tahoma"/>
              </a:rPr>
              <a:t>Клинички се болест карактерише тешким неуролошким поремећајима са смртним исходом.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7AC-2D83-4951-AC24-D4564554028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404720" y="8355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Етиологија</a:t>
            </a:r>
            <a:r>
              <a:rPr b="1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476360" y="429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e9f913"/>
                </a:solidFill>
                <a:latin typeface="Tahoma"/>
              </a:rPr>
              <a:t>Trypanosoma rhodesien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5435640" y="43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e9f913"/>
                </a:solidFill>
                <a:latin typeface="Tahoma"/>
              </a:rPr>
              <a:t>Trypanosoma gambien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258920" y="5373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е две подврсте се морфолошки не разликују, али узрокују болести које су епидемиолошки и клинички различите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10" descr="FIGgamb03"/>
          <p:cNvPicPr/>
          <p:nvPr/>
        </p:nvPicPr>
        <p:blipFill>
          <a:blip r:embed="rId1"/>
          <a:stretch/>
        </p:blipFill>
        <p:spPr>
          <a:xfrm>
            <a:off x="5292720" y="1671480"/>
            <a:ext cx="3311640" cy="2432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FIGrhodes01"/>
          <p:cNvPicPr/>
          <p:nvPr/>
        </p:nvPicPr>
        <p:blipFill>
          <a:blip r:embed="rId2"/>
          <a:stretch/>
        </p:blipFill>
        <p:spPr>
          <a:xfrm>
            <a:off x="1187280" y="1655640"/>
            <a:ext cx="345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78D1-1984-4EC8-A2A2-0FA2BD6DE2F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619280" y="10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9f913"/>
                </a:solidFill>
                <a:latin typeface="Tahoma"/>
              </a:rPr>
              <a:t>Glos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8" descr="Tsetse"/>
          <p:cNvPicPr/>
          <p:nvPr/>
        </p:nvPicPr>
        <p:blipFill>
          <a:blip r:embed="rId1"/>
          <a:stretch/>
        </p:blipFill>
        <p:spPr>
          <a:xfrm>
            <a:off x="324000" y="3284640"/>
            <a:ext cx="4300560" cy="2781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clip_image002_0001"/>
          <p:cNvPicPr/>
          <p:nvPr/>
        </p:nvPicPr>
        <p:blipFill>
          <a:blip r:embed="rId2"/>
          <a:stretch/>
        </p:blipFill>
        <p:spPr>
          <a:xfrm>
            <a:off x="4716360" y="26028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tsetse"/>
          <p:cNvPicPr/>
          <p:nvPr/>
        </p:nvPicPr>
        <p:blipFill>
          <a:blip r:embed="rId3"/>
          <a:stretch/>
        </p:blipFill>
        <p:spPr>
          <a:xfrm>
            <a:off x="4859280" y="3213000"/>
            <a:ext cx="40561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F0B-9413-4A2B-BBD5-72AB80C14B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84160" y="906840"/>
            <a:ext cx="24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9f913"/>
                </a:solidFill>
                <a:latin typeface="Tahoma"/>
              </a:rPr>
              <a:t>Животни циклус </a:t>
            </a:r>
            <a:br>
              <a:rPr sz="2000"/>
            </a:br>
            <a:r>
              <a:rPr b="1" lang="sr-Latn-CS" sz="2000" spc="-1" strike="noStrike">
                <a:solidFill>
                  <a:srgbClr val="e9f913"/>
                </a:solidFill>
                <a:latin typeface="Tahoma"/>
              </a:rPr>
              <a:t>паразита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754200" y="4437000"/>
            <a:ext cx="83898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сле више циклуса размножавања у  дигестивном  тракту  инсекта,  паразити мигрирају у пљувачне жлезд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када це-це мува за време крвног оброка, инокулише паразите поткож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аразити се размножавају у крви и другим екстраћелијским течностима (лимфа, ликвор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755640" y="3068640"/>
            <a:ext cx="2952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секти се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инфицирају сишући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крв зараженог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сисара домаћ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8" descr="AfrTryp_LifeCycle"/>
          <p:cNvPicPr/>
          <p:nvPr/>
        </p:nvPicPr>
        <p:blipFill>
          <a:blip r:embed="rId1"/>
          <a:stretch/>
        </p:blipFill>
        <p:spPr>
          <a:xfrm>
            <a:off x="3564000" y="404640"/>
            <a:ext cx="536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349A-9C1C-4102-ADA7-8A2C2D66E2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187280" y="836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9f913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826920" y="292428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павања се јавља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искључиво у Африц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Т. gambiens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зрокуј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болест у западној Африци, а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Т. rhodesiens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источној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Африц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826920" y="5589720"/>
            <a:ext cx="7560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T. gambiens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је човек, 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T. rhodesiens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антилопе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8" descr="clip_image002"/>
          <p:cNvPicPr/>
          <p:nvPr/>
        </p:nvPicPr>
        <p:blipFill>
          <a:blip r:embed="rId1"/>
          <a:stretch/>
        </p:blipFill>
        <p:spPr>
          <a:xfrm>
            <a:off x="4427640" y="189000"/>
            <a:ext cx="46101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CE95-26FB-428A-BC93-FF102A3EF93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ромастигот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лептомoнаnс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146240" y="191628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Промастиг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AA80-D427-48EE-80AE-8AE7278A4B2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1237320" y="105156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Клиничка слика</a:t>
            </a:r>
            <a:r>
              <a:rPr b="0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71640" y="4941720"/>
            <a:ext cx="817236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јчешће износи 8 дана (може и пар годин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 месту инокулације паразита јавља се болан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трипанозомални шанкр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8" descr="01-0130ab-african-1"/>
          <p:cNvPicPr/>
          <p:nvPr/>
        </p:nvPicPr>
        <p:blipFill>
          <a:blip r:embed="rId1"/>
          <a:srcRect l="21283" t="0" r="0" b="0"/>
          <a:stretch/>
        </p:blipFill>
        <p:spPr>
          <a:xfrm>
            <a:off x="4356000" y="620640"/>
            <a:ext cx="4465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F22F-C9FA-4608-982A-7DC8E4BBEB1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295280" y="821520"/>
            <a:ext cx="73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e9f913"/>
                </a:solidFill>
                <a:latin typeface="Tahoma"/>
              </a:rPr>
              <a:t>I Стадијум болести (одговара дисеминацији паразита)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042920" y="2276640"/>
            <a:ext cx="785016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20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пшти симптоми: фебрилност, главобоља, малаксалост, артралгије, свраб,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0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мфаденопатија (код T. gambiense инфекције), оспа, хепатоспленомегалиј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291-59DE-49D9-BE0D-3656218E6C4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354680" y="61992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9f913"/>
                </a:solidFill>
                <a:latin typeface="Tahoma"/>
              </a:rPr>
              <a:t>II </a:t>
            </a:r>
            <a:r>
              <a:rPr b="1" i="1" lang="sr-Latn-CS" sz="2000" spc="-1" strike="noStrike">
                <a:solidFill>
                  <a:srgbClr val="e9f913"/>
                </a:solidFill>
                <a:latin typeface="Tahoma"/>
              </a:rPr>
              <a:t>Стадијум болести (одговара инвазији CNS-а)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101600" y="141192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Неуролошки поремећаји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5014440" y="141192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e9f913"/>
                </a:solidFill>
                <a:latin typeface="Tahoma"/>
              </a:rPr>
              <a:t>Психијатријски поремећаји</a:t>
            </a:r>
            <a:r>
              <a:rPr b="0" lang="en-US" sz="20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187280" y="2133720"/>
            <a:ext cx="324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главобо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оспан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ехотимични покре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ишићни хипертон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атак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толошки рефлек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5076720" y="21337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сихомоторна успорен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нфуз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анично-депресивно ст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258920" y="515772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јзначајнија разлика између западно- и источноафричке трипанозомијазе је што источна има акутнији 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4E30-3F0F-4AB4-AFA3-DBD10CBD5C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332360" y="61956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Дијагноза</a:t>
            </a:r>
            <a:r>
              <a:rPr b="1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2060640"/>
            <a:ext cx="81010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8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икроскопска детекција паразита у одговарајућем биолошком материјалу (крв, течност из шанкра, аспират лимфног чвора, пунктат костне сржи, ликвор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8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иолошки оглед (за детекцију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. rhodesiense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8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глед ликвора (плеоцитоза, хиперпротеинорахиј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048-EDAA-4CB6-B178-652803AA05A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417320" y="6912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Tahoma"/>
              </a:rPr>
              <a:t>Лечење</a:t>
            </a:r>
            <a:r>
              <a:rPr b="0" lang="en-US" sz="2400" spc="-1" strike="noStrike">
                <a:solidFill>
                  <a:srgbClr val="e9f91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042920" y="2205000"/>
            <a:ext cx="403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urami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Eflorniti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entamidi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ргански препарати арс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icture 7" descr="clip_image002_0003"/>
          <p:cNvPicPr/>
          <p:nvPr/>
        </p:nvPicPr>
        <p:blipFill>
          <a:blip r:embed="rId1"/>
          <a:stretch/>
        </p:blipFill>
        <p:spPr>
          <a:xfrm>
            <a:off x="5167440" y="836640"/>
            <a:ext cx="3308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C76-1100-4BC6-9FD4-984B702E45D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2447280" y="266076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Comic Sans MS"/>
              </a:rPr>
              <a:t>Хвала на па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8EC-CAB5-4B58-A131-C032E955980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281240" y="765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Амастиг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3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A3F7-25FA-4592-8B1C-74B90820F51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33200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00000" y="1916280"/>
            <a:ext cx="82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дј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66E-A0C3-4B61-A96B-1C438DE0A96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71640" y="260280"/>
            <a:ext cx="8064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2F66-6EB7-4CDF-82F0-8013F912EDC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71640" y="1052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не жлезде, слезина, јетра, костна срж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619280" y="1844640"/>
            <a:ext cx="6769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A40-F416-4384-AF94-E8F8560D0A1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leish"/>
          <p:cNvPicPr/>
          <p:nvPr/>
        </p:nvPicPr>
        <p:blipFill>
          <a:blip r:embed="rId1"/>
          <a:stretch/>
        </p:blipFill>
        <p:spPr>
          <a:xfrm>
            <a:off x="684360" y="836640"/>
            <a:ext cx="82087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36:59Z</dcterms:modified>
  <cp:revision>99</cp:revision>
  <dc:subject/>
  <dc:title>Slide 1</dc:title>
</cp:coreProperties>
</file>