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šinski materijali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DFF2DB-435B-4EFA-ADC5-52DE3BE00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DCF307-E5F3-4471-B143-76F47373DA3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DF906-ECD2-4399-8BB4-319D13BEE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1AB5-6232-4947-940B-0209972B3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7E944-7F13-4784-A13E-8CD3E03CC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A797-A222-4A52-88B4-9672B5524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1943F-D733-4BAC-892D-16D1B93B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4BCAF-7144-4CD7-B00F-32E1C23B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05F7C-66F4-439A-9694-1B6D2463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8E770-B044-4E1A-B85C-EF95113A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719BA-AE14-4328-9885-42FB2382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0DE87-D8AA-4D3C-B37F-210569E5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E1C95-6A7C-4D3D-A8FC-136D316D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24CC4-0668-40DE-AEA9-145DDB02F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034E1-90C7-4CBD-8D67-BE45B474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FAB44-0E6E-4688-BC07-190C27C5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C9339-B95A-4E47-9C30-1BBF4FBF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B558C-9015-4BE6-9514-2FB6D1A9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CAEEB-2500-4449-8D64-60EF5C29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E7272-226E-4E27-9F53-7D7656D08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927B-532A-4811-A931-5F074AC87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2884-45D5-472C-85A1-1326D2BAB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A2E63-326B-46C7-85CE-95A660E00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9743-09DA-4DC3-8339-3A7DA699F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FA524-EB49-4D54-8883-75F70B3C0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78C9-9C56-4358-B849-97F156021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6AEA-BBA3-4818-A0BE-69A5403F224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1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C5E6-57FD-4D0C-BA5D-2129101EE90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3BEE-7F9F-4919-91BB-4480B71DC68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4360" y="2421000"/>
            <a:ext cx="367164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Тропске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00"/>
                </a:solidFill>
                <a:latin typeface="Comic Sans MS"/>
              </a:rPr>
              <a:t>Шистозомијаза/</a:t>
            </a:r>
            <a:br>
              <a:rPr sz="3200"/>
            </a:br>
            <a:r>
              <a:rPr b="1" i="1" lang="sr-Latn-CS" sz="3200" spc="-1" strike="noStrike">
                <a:solidFill>
                  <a:srgbClr val="ffff00"/>
                </a:solidFill>
                <a:latin typeface="Comic Sans MS"/>
              </a:rPr>
              <a:t>Schistosomia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7" descr="Case9a"/>
          <p:cNvPicPr/>
          <p:nvPr/>
        </p:nvPicPr>
        <p:blipFill>
          <a:blip r:embed="rId1"/>
          <a:stretch/>
        </p:blipFill>
        <p:spPr>
          <a:xfrm>
            <a:off x="4356000" y="2444760"/>
            <a:ext cx="47880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7C2C-4029-4FA8-9A2F-DFD13237686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1042920" y="1341360"/>
            <a:ext cx="7705800" cy="29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II стадијум (акутна шистозомијаз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стаје 1-2 месеца касније: висока температура праћена дрхтавицом, главобоља, кашаљ, крваво-слузаве столице, хепатоспленомегалија и уртикаријални осип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периферној крви нлазимо леукоцитозу са еозинофилиј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ај стадијум траје  1 до 3 месеца и може се завршити смрћу болес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4CC0-52DC-4C7D-8520-91EC27A6CE3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042920" y="549360"/>
            <a:ext cx="792180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III стадијум (хронична шистозомијаз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10000"/>
              </a:lnSpc>
              <a:spcAft>
                <a:spcPts val="561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 већине инфицираних протичне инапарентн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10000"/>
              </a:lnSpc>
              <a:spcAft>
                <a:spcPts val="561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 болесника са интестиналном шистозомијазом: бол у трбуху, сукрвичаве проливасте столице, анемија; са развојем портне хипертензије настају хепатоспленомегалија, езофагеални варикси са повременим хематемезама и асцитес (цироза јетр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10000"/>
              </a:lnSpc>
              <a:spcAft>
                <a:spcPts val="561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 болесника са уринарном шистозомијазом: дизуричне тегобе, учестало мокрење и хематурија (честе су и бактеријске уринарне инфекције); због стварања гранулома може доћи до опструкције доњих делова уретера са последичном појавом хидроуретера и хидронефрозе; запажена је и повезаност сквамозног карцинома мокраћне бешике и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S. haematobium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инфекциј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10000"/>
              </a:lnSpc>
              <a:spcAft>
                <a:spcPts val="561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 болесника са плућном шистозомијазом: плућна хипертензија са последичним плућним срце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10000"/>
              </a:lnSpc>
              <a:spcAft>
                <a:spcPts val="561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 болесника са шистозиомијазом централног нервног система: фокална епилепсија-Џексон, а у случају захваћености медуле спиналис: трансферзални мијелити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688F-07BD-4927-BD31-86F0FBD3683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87280" y="1197000"/>
            <a:ext cx="748836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а сли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пидемиолошки подац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рвна слика (леукоцитоза са еозинофлијом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Етиолошка 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дентификација јајашца шистозоме у столици или урин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дентификација шистозома у бипоптичком материјалу ректу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еролошке реакције (FAST-ELISA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2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8BEA-7DC9-4674-9302-163A8125FA3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548720" y="11962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16000" y="2205000"/>
          <a:ext cx="7543800" cy="2157480"/>
        </p:xfrm>
        <a:graphic>
          <a:graphicData uri="http://schemas.openxmlformats.org/drawingml/2006/table">
            <a:tbl>
              <a:tblPr/>
              <a:tblGrid>
                <a:gridCol w="3000240"/>
                <a:gridCol w="2017800"/>
                <a:gridCol w="252576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зроч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Л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. mansoni i S. haematob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razikvant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x20mg/kgtt, 1 </a:t>
                      </a:r>
                      <a:r>
                        <a:rPr b="0" lang="sr-C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. japonicum i S. mekong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razikvant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x20mg/kgtt, 1 </a:t>
                      </a:r>
                      <a:r>
                        <a:rPr b="0" lang="sr-C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52A5-D7B8-48A2-B9C4-C7D94C69814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116000" y="2060640"/>
            <a:ext cx="367200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Тропске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00"/>
                </a:solidFill>
                <a:latin typeface="Comic Sans MS"/>
              </a:rPr>
              <a:t>ФИЛАРИЈАЗА / FILARIA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eleph_clip_image004"/>
          <p:cNvPicPr/>
          <p:nvPr/>
        </p:nvPicPr>
        <p:blipFill>
          <a:blip r:embed="rId1"/>
          <a:stretch/>
        </p:blipFill>
        <p:spPr>
          <a:xfrm>
            <a:off x="5388120" y="260280"/>
            <a:ext cx="37558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6314-620E-4068-B488-D4048418B12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16000" y="1341360"/>
            <a:ext cx="741672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4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Општи де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иларијазе представљају групу обољења хетерогене етиологије и клиничких манифестација, које проузрокује велика породица нематодних паразита,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Filaroid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иларијазе су хроничне паразитне болести тропских и суптропских подручја, од којих болује око 200 милиона људ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д осам врста филарија које паразитирају у човеку најважније манифестације изазивају лимфне филарије: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Wuchereria bancrofti, Brugia malayi 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Brugia timor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и супкутане филарије: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Onchocerca volvulus 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Loa-Lo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D7E4-3CD2-430E-8A56-DAB9920F7E3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116000" y="1197000"/>
            <a:ext cx="77058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Лимфатична филарија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имфатична филаријаза је хронична инфективна болест коју узрокују три врсте филариј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Wuchereria bancrofti, Brugia malayi и Brugia timori.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и се болест манифестује упалом лимфних судова и чворова, доводећи у хроничној фази до њихове опструкције са последичном елефантијаз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029A-BB90-404E-B64C-B4119B93CEB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1116000" y="1125360"/>
            <a:ext cx="75614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драсли паразити имају изглед дугог танког конца, а женке су двоструко веће (женке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Wuchereria bancrofti су дугачке 8-10 cm, а широке 0,3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m); B. malayi и B. tmori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у два до четири пута мањ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3" descr="filariasis"/>
          <p:cNvPicPr/>
          <p:nvPr/>
        </p:nvPicPr>
        <p:blipFill>
          <a:blip r:embed="rId1"/>
          <a:stretch/>
        </p:blipFill>
        <p:spPr>
          <a:xfrm>
            <a:off x="5651640" y="3141720"/>
            <a:ext cx="3290760" cy="32684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042920" y="3573360"/>
            <a:ext cx="424836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3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драсли паразити живе у лимфним судовима или лимфним чворовима (некада и више од две деценије); женке легу велики број ларви (микрофиларија) које лимфним путевима прелазе у кр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781E-2C31-4849-B6A4-5AE67F96533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971640" y="1413000"/>
            <a:ext cx="792144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W. Bancroft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је најраспрострањенија: проширена је у свим крајевима тропског и суптропског појаса (заражено је око 80 милиона људи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B. malay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је проширена у југоисточној Азији (заражено око 9 милиона људи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B. timor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се налази само на индонезијским острви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реносе хематофагни инсекти (комарц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606E-150A-44C0-A297-9408A43D367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2217600" y="12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8" descr="http://www.nd.edu/~crnd/lymphatic_filariasis_clip_image001.jpg"/>
          <p:cNvPicPr/>
          <p:nvPr/>
        </p:nvPicPr>
        <p:blipFill>
          <a:blip r:embed="rId1"/>
          <a:stretch/>
        </p:blipFill>
        <p:spPr>
          <a:xfrm>
            <a:off x="1547640" y="3933720"/>
            <a:ext cx="3333960" cy="2305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831paedes"/>
          <p:cNvPicPr/>
          <p:nvPr/>
        </p:nvPicPr>
        <p:blipFill>
          <a:blip r:embed="rId2"/>
          <a:stretch/>
        </p:blipFill>
        <p:spPr>
          <a:xfrm>
            <a:off x="1547640" y="836640"/>
            <a:ext cx="3314880" cy="2419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culex"/>
          <p:cNvPicPr/>
          <p:nvPr/>
        </p:nvPicPr>
        <p:blipFill>
          <a:blip r:embed="rId3"/>
          <a:stretch/>
        </p:blipFill>
        <p:spPr>
          <a:xfrm>
            <a:off x="5724360" y="1125360"/>
            <a:ext cx="30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1456-B79B-4DF7-BF88-B36F441B562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116000" y="2060640"/>
            <a:ext cx="770580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Шистозомијаза је болест тропских и суптропских крајева изазвана крвним метиљима који живе у мезентеричним венам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(Schistosoma mansoni, S. japonicum, S.mecongi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или у венама мокраћне бешике и карлице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(S. haematobium).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Клинички се болест најчешће манифестује симптомима од стране интестиналног (укључујучи и јетру) и уринарног трак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102A-DF37-4EBC-9FA3-8FEA880590B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3" descr="LF_endemicCountries_s"/>
          <p:cNvPicPr/>
          <p:nvPr/>
        </p:nvPicPr>
        <p:blipFill>
          <a:blip r:embed="rId1"/>
          <a:stretch/>
        </p:blipFill>
        <p:spPr>
          <a:xfrm>
            <a:off x="684360" y="765000"/>
            <a:ext cx="803088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6A6E-5280-455D-A4DB-2895B48FB70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1040040" y="4039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1577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етпоставља се да је већина патолошких промена код лимфних филаријаза последица имунског одговора на присуство паразита (временом лимфни судови постају задебљали, лимфне валвуле губе функцију, а око њих се развија грануломатозна упала); све то узрокује лимфну опструкцију са лимфном стаз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5" descr="Filariasis_01"/>
          <p:cNvPicPr/>
          <p:nvPr/>
        </p:nvPicPr>
        <p:blipFill>
          <a:blip r:embed="rId1"/>
          <a:stretch/>
        </p:blipFill>
        <p:spPr>
          <a:xfrm>
            <a:off x="2700360" y="0"/>
            <a:ext cx="644364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C3FF-AD07-4494-9198-5731646FF96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236960" y="8359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187280" y="1916280"/>
            <a:ext cx="66978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99"/>
                </a:solidFill>
                <a:latin typeface="Tahoma"/>
              </a:rPr>
              <a:t>Клинички облици лимфатичне филарија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симптоматска филаријаз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кутни аденолимфангитис (Филаријска грозниц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ронична лимфатична опструкци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4D21-73B9-4AC1-B7F3-6ACCB389AC5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042920" y="1052640"/>
            <a:ext cx="78501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343080">
              <a:lnSpc>
                <a:spcPct val="170000"/>
              </a:lnSpc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Асимптоматска филариј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6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680" indent="-343080">
              <a:lnSpc>
                <a:spcPct val="17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 домородаца инфекција је најчешће асимптоматска, праћен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микрофиларемијом и благом еозинофилиј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680" indent="-343080">
              <a:lnSpc>
                <a:spcPct val="17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 неких болесника микрофиларемија верменом престане, а код других прелази у манифестну боле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D6C5-5CC3-4B14-ACE7-DB57EBB4644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095480" y="200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042920" y="1341360"/>
            <a:ext cx="763272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Акутни аденолимфаденитис (Филаријска грозниц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арактерише се епизодама повишене температуре са лимфаденитисом и лимфангитисом ретроградно од афицираног чвора (атаци се јављају   неколико пута годишње и трају по неколико дана, а праћени су микрофиларемијом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ромене су чешће на доњим екстремитетима, а код W. Bancrofti због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захваћености лимфних судова гениталија, настају фуникулитис, епидидимитис   и орхитис уз едем скроту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периферној крви присутна је леукоцитоза уз умерену еозинофилиј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4721-AFD6-47FD-ACE7-7D8281CB33B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1257840" y="980280"/>
            <a:ext cx="41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just">
              <a:buClr>
                <a:srgbClr val="ffff00"/>
              </a:buClr>
              <a:buFont typeface="Tahoma"/>
              <a:buAutoNum type="arabicPeriod" startAt="3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Хронична лимфна опструк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6920" y="2349360"/>
            <a:ext cx="498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ронична лимфна опструкција настаје касно, након више десетина година, а карактерише се појавом чврстих едема праћених хиперкератозом коже (елефанстијаза се јавља у терминалном стадијуму филаријазе код 10 % инфицираних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6" descr="eleph_clip_image004"/>
          <p:cNvPicPr/>
          <p:nvPr/>
        </p:nvPicPr>
        <p:blipFill>
          <a:blip r:embed="rId1"/>
          <a:stretch/>
        </p:blipFill>
        <p:spPr>
          <a:xfrm>
            <a:off x="6245280" y="0"/>
            <a:ext cx="2898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5A01-095C-4464-BB22-B6B791D0C97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187280" y="4076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Због опструкције гениталних лимфних  судова (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W. Bancrofti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 може настати хидрокела и елефантијаза скроту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4" descr="filaria2"/>
          <p:cNvPicPr/>
          <p:nvPr/>
        </p:nvPicPr>
        <p:blipFill>
          <a:blip r:embed="rId1"/>
          <a:stretch/>
        </p:blipFill>
        <p:spPr>
          <a:xfrm>
            <a:off x="4500720" y="260280"/>
            <a:ext cx="4343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2EA5-D3A5-41DC-82C5-B62CAD0003C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900000" y="404640"/>
            <a:ext cx="810108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овишене вредности IgE и еозинофил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лаз паразита (микрофиларија) у крви (оптимално време узимања крви је ноћу између 22 и 4 сат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лаз одраслих паразита у лимфном ткив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Dietilkarbamazin (DEK) у дози 5mg/ktt/дан/три дозе, 7 дана (лечење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е може понављати и нижим дозама дуже времена, чак до 1,5 годин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 хроничне лимфне опструкције долази у обзир хируршко премошћавањ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имфних судова у циљу декомпресиј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рофилак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узбијање комараца и редуковање броја носиоца микрофилари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8C43-3624-43DA-8353-DA9B236B1B2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042920" y="1413000"/>
            <a:ext cx="763272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ропска плућна еозинофил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ропска плућна еозинофилија је посебан ентитет који се развија код неких особа инфестираним лимфатичним врстама филар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Чешће се јавља код мушкараца (однос 4:1), често током треће деценије живо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Већина случајева описана је у Индији, Пакистану, Шти Ланки, Бразилу и Југоиточној Азиј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5C2B-E6DF-4F41-B972-F730AFEC6F2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971640" y="620640"/>
            <a:ext cx="785016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 ТПЕ постоји снажан имунски одговор који доводи до брзог уклањања  микрофиларија из крви, што доводи до алергијске и запаљенске реакциј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Главни симптоми: напади кашља и гушење (обично ноћу), са оскудним спутумом, ниском фебрилношћу, висока еозинофилија у периферној крви (&gt; 3000 еозинофлила /mm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Rtg плућа: појачан бронховаскуларни цртеж; дифузне мрљасте промене величине 1-3 mm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естирање плућне функције указује на рестриктивне проме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F204-6396-4B76-90F4-EA9C30F184A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042920" y="1341360"/>
            <a:ext cx="7632720" cy="34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Шистозоме (клас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Trematodes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коло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Helmintes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тестиналну шистозомијазу изазивају: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S. mansini, S. japonicum, S. mekongi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ринарну шистозомијазу изазава: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S. haematobium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драсли црви шистозома дугачки су 1-2 cm и живе у мезентеричним и генитоуринарним венским судовима где полажу јајаш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5A00-CAF8-4783-A968-D4E38152369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959040" y="5819760"/>
            <a:ext cx="77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99"/>
                </a:solidFill>
                <a:latin typeface="Tahoma"/>
              </a:rPr>
              <a:t>Наглашен бронховаскуларни цртеж са дифузним мрљастим сенка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4" descr="68-633-gse28"/>
          <p:cNvPicPr/>
          <p:nvPr/>
        </p:nvPicPr>
        <p:blipFill>
          <a:blip r:embed="rId1"/>
          <a:srcRect l="2682" t="9444" r="2043" b="6339"/>
          <a:stretch/>
        </p:blipFill>
        <p:spPr>
          <a:xfrm>
            <a:off x="3419640" y="692280"/>
            <a:ext cx="5113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48C2-3C35-42AA-84B6-B22185C995C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042920" y="119700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а слика и терапијски ефекат (најваж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ниј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), с обзиром да нема микрофиларијемиј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Висок ниво IgE у серуму (&gt; 500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ng/ml) и висок титар антитела на филарије (IgE и IgG класе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Dietilkarbamazin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у дози 4-6 mg/ktt/дан/три дозе, 14 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3BA8-D0CE-4E41-9345-7427094F40D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900000" y="2205000"/>
            <a:ext cx="424836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Тропске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Лоијаза/Loao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5" descr="240px-Elephantiasis"/>
          <p:cNvPicPr/>
          <p:nvPr/>
        </p:nvPicPr>
        <p:blipFill>
          <a:blip r:embed="rId1"/>
          <a:stretch/>
        </p:blipFill>
        <p:spPr>
          <a:xfrm>
            <a:off x="5207040" y="404640"/>
            <a:ext cx="39369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EC7D-DC37-49FB-A7BD-E10B0B7B666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1269000" y="61956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 Rounded MT Bold"/>
              </a:rPr>
              <a:t>Лоијаза</a:t>
            </a:r>
            <a:r>
              <a:rPr b="1" lang="sr-Latn-CS" sz="2400" spc="-1" strike="noStrike">
                <a:solidFill>
                  <a:srgbClr val="ffff00"/>
                </a:solidFill>
                <a:latin typeface="Arial Rounded MT Bold"/>
              </a:rPr>
              <a:t>/Loa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87280" y="2060640"/>
            <a:ext cx="72010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оијаза је болест тропског поднебља, коју узрокује нематод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Loa-Lo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преносе обади, а карактерише се пролазним отоцима субкутаног тки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C013-49ED-4BEE-8C91-B9632AA7E0F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6120" y="33138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0" y="529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971640" y="1197000"/>
            <a:ext cx="7993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Loa-Loa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(клас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Nematodes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коло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Helmintes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драсли паразит живи у поткожном ткиву човека око 20 година; паразити су покретни, мењају своје боравиште крећући се кроз поткожно ткиво око 1 cm на минут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971640" y="551664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оијаза је распрострањена у западној и средњој Африц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9" descr="http://www.infectology.ru/nosology/parasitic/helmintoses/gif_illustr/loaos.14.jpg"/>
          <p:cNvPicPr/>
          <p:nvPr/>
        </p:nvPicPr>
        <p:blipFill>
          <a:blip r:embed="rId1"/>
          <a:stretch/>
        </p:blipFill>
        <p:spPr>
          <a:xfrm>
            <a:off x="1692360" y="3429000"/>
            <a:ext cx="2628720" cy="1752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http://www.infectology.ru/nosology/parasitic/helmintoses/gif_illustr/loaos.13.jpg"/>
          <p:cNvPicPr/>
          <p:nvPr/>
        </p:nvPicPr>
        <p:blipFill>
          <a:blip r:embed="rId2"/>
          <a:stretch/>
        </p:blipFill>
        <p:spPr>
          <a:xfrm>
            <a:off x="4859280" y="3429000"/>
            <a:ext cx="2629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BD99-5328-4BE2-82FC-4DE25B08907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113120" y="4039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4" descr="8cce35fd83121de1689797b1541e1076"/>
          <p:cNvPicPr/>
          <p:nvPr/>
        </p:nvPicPr>
        <p:blipFill>
          <a:blip r:embed="rId1"/>
          <a:stretch/>
        </p:blipFill>
        <p:spPr>
          <a:xfrm>
            <a:off x="2340000" y="981000"/>
            <a:ext cx="58831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DA79-0706-4B46-91AB-3A05BF33F6D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971640" y="1268280"/>
            <a:ext cx="4824360" cy="40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 већина заражених инфестација протиче без симптома уз високу еозинофилију у крв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Главно клиничко обележје болести су пролазни ограничени поткожни едеми („калабарски едеми“) са пропратним еритемом; локализују се на дисталним деловима екстремитета или око очију; праћени су еозинофилијом у периферној кр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4" descr="240px-Elephantiasis"/>
          <p:cNvPicPr/>
          <p:nvPr/>
        </p:nvPicPr>
        <p:blipFill>
          <a:blip r:embed="rId1"/>
          <a:stretch/>
        </p:blipFill>
        <p:spPr>
          <a:xfrm>
            <a:off x="5925960" y="907920"/>
            <a:ext cx="32180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702B-26AD-4582-90AC-EE0E19F364C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971640" y="1053360"/>
            <a:ext cx="73944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лаз микрофиларија у периферној кр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Dietilkarbamazin (50mg/дан, па се доза повисује до 4mg/kgtt/дан, 10 д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C4A9-FB34-4039-B71B-72216690C1F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447280" y="2660760"/>
            <a:ext cx="39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00"/>
                </a:solidFill>
                <a:latin typeface="Comic Sans MS"/>
              </a:rPr>
              <a:t>Хвала на пажњ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82DE-B997-4EF9-88AA-5FCED896185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" descr="schisto_worm"/>
          <p:cNvPicPr/>
          <p:nvPr/>
        </p:nvPicPr>
        <p:blipFill>
          <a:blip r:embed="rId1"/>
          <a:stretch/>
        </p:blipFill>
        <p:spPr>
          <a:xfrm>
            <a:off x="3492360" y="122400"/>
            <a:ext cx="5050080" cy="2689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1199880" y="40392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99"/>
                </a:solidFill>
                <a:latin typeface="Tahoma"/>
              </a:rPr>
              <a:t>Одрасли паразит</a:t>
            </a:r>
            <a:r>
              <a:rPr b="0" i="1" lang="en-US" sz="1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154320" y="40046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99"/>
                </a:solidFill>
                <a:latin typeface="Tahoma"/>
              </a:rPr>
              <a:t>Јаја шистозом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S_haematobium_eggQ"/>
          <p:cNvPicPr/>
          <p:nvPr/>
        </p:nvPicPr>
        <p:blipFill>
          <a:blip r:embed="rId2"/>
          <a:stretch/>
        </p:blipFill>
        <p:spPr>
          <a:xfrm>
            <a:off x="1042920" y="4581360"/>
            <a:ext cx="3672000" cy="1874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S_mekongi_eggR"/>
          <p:cNvPicPr/>
          <p:nvPr/>
        </p:nvPicPr>
        <p:blipFill>
          <a:blip r:embed="rId3"/>
          <a:stretch/>
        </p:blipFill>
        <p:spPr>
          <a:xfrm>
            <a:off x="5148360" y="3284640"/>
            <a:ext cx="326376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F782-BC6E-4E3C-B33F-F2C53CC88F7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116000" y="1413000"/>
            <a:ext cx="770400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д шистозомијазе болује више од 200 милиона људи (болест је у порасту са повећањем обрадивих површина које се наводњавају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ринарна шистозомијаза узрокована с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S. haematobium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је најраспрострањенија у Африци (у долини реке Нил) и Средњем исток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тестинална шистозомијаза узрокован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S. manson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је најраспрострањенија у Африци и Јужној Америц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Далекоисточна шистозомијаза узрокован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S. japonicum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најзаступљенија је у Кини, Јапану и на Филипин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2D64-1136-4CF8-AC32-190ABE332D4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2" descr="map4-10_lg"/>
          <p:cNvPicPr/>
          <p:nvPr/>
        </p:nvPicPr>
        <p:blipFill>
          <a:blip r:embed="rId1"/>
          <a:stretch/>
        </p:blipFill>
        <p:spPr>
          <a:xfrm>
            <a:off x="1187280" y="549360"/>
            <a:ext cx="73216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82A0-5F22-4752-A38B-3E3F5272A98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256040" y="40392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" descr="Schistosomiasis_Life_Cycle"/>
          <p:cNvPicPr/>
          <p:nvPr/>
        </p:nvPicPr>
        <p:blipFill>
          <a:blip r:embed="rId1"/>
          <a:stretch/>
        </p:blipFill>
        <p:spPr>
          <a:xfrm>
            <a:off x="1476360" y="1125360"/>
            <a:ext cx="707076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2E71-A883-41D2-B156-8335EA7C4DE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971640" y="1916280"/>
            <a:ext cx="7993080" cy="39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ада паразити сексуално сазревају и почну да полажу јајашца може доћи до  стварања циркулишућих имунских комплекса у вишку антигена и њиховог депоновања у разним ткивима (акутна шистозомијаза - Катајама грозниц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У хроничној фази инфекције, као последица целуларног имунског одговора долази до стварања гранулома око паразита, а касније до фиброзе што може довести до опструкције крвних судова и мокраћних путе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Нека јајашца крвном струјом доспевају до јетре, где се због стварања гранулома може развити перипортална фиброза са последичном порталном хипертензиј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A053-6C6C-4737-9330-83631B810A6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691280" y="54864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Klinička slik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42920" y="1413000"/>
            <a:ext cx="756144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I стадијум боле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 месту продора церкарија у кожу за 24 сата настаје 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шистозомни дерматитис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 макулопапулозни осип праћен сврабом, некада и општим симптом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Case9a"/>
          <p:cNvPicPr/>
          <p:nvPr/>
        </p:nvPicPr>
        <p:blipFill>
          <a:blip r:embed="rId1"/>
          <a:stretch/>
        </p:blipFill>
        <p:spPr>
          <a:xfrm>
            <a:off x="3635280" y="3068640"/>
            <a:ext cx="504036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Predrag Canovic</cp:lastModifiedBy>
  <dcterms:modified xsi:type="dcterms:W3CDTF">2023-02-03T01:36:02Z</dcterms:modified>
  <cp:revision>101</cp:revision>
  <dc:subject/>
  <dc:title>Slide 1</dc:title>
</cp:coreProperties>
</file>